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EB52-900D-445A-9C96-2F0B96B76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FAF8-E063-45DA-8E6C-32F8D0978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2586-260C-4D9D-8200-DBF289FE5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310D-B5BB-4A45-AD4E-780D41E5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4DF8-9A09-4D94-BCCC-12B561B3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B722-EC88-4864-A1A4-388784CD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5DB-305D-47B2-9C43-4FCB07E8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1711-6B06-4FF9-A9C1-548C6ABC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FEF-92F1-49E8-B738-BE2B0FF5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A262-CB75-4AC3-B6E2-09D03415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FF0B-AAB4-4F7C-BE2E-0E6BE2CD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F4A-32D3-4484-9CA1-F3F3708D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1822-C183-421E-9D85-41546979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A1A-5CD5-4B05-B2EC-FF7AB48B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E917-F180-4601-A574-D32528B9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610F-29F7-4E4E-B698-DBEA352C8F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6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mplementation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ngagement with farmers and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roles (incl. limited nature of engagement) and expec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selection should be inclusive and transpa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perational issues emerging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ngagement with farmers and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entive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y sensitive matter that needs to be handled carefully (basically no handing out money to participants when they come to training meetings in the vill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ensation guidelines for events such as training outside the village, exchange visits have guidelines that we need to follo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actors may be doing it, but we need to avo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 (not free, but we need to hear from the experienced partner, NAFAKA on how this is done from this ang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eam eng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communication ( and feedback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contractors should follow engagement standard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NAFAKA 2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ffing in NAFAKA original locations (Zone 1) and new locations (Zone 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ographical fit of the partnership projec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it from locations where NAFAKA is not pres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53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454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6" descr="AVRDC – The World Vegetable Center — avrdc.org"/>
            <p:cNvPicPr/>
            <p:nvPr/>
          </p:nvPicPr>
          <p:blipFill>
            <a:blip r:embed="rId4"/>
            <a:srcRect l="0" t="0" r="63858" b="0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6-07-05T05:51:43Z</dcterms:modified>
  <cp:revision>19</cp:revision>
  <dc:subject/>
  <dc:title>PowerPoint Presentation</dc:title>
</cp:coreProperties>
</file>